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0" y="-3240"/>
            <a:ext cx="83804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31920"/>
            <a:ext cx="7772400" cy="25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01400"/>
            <a:ext cx="7772400" cy="25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0" y="-3240"/>
            <a:ext cx="83804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31920"/>
            <a:ext cx="3792600" cy="25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31920"/>
            <a:ext cx="3792600" cy="25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01400"/>
            <a:ext cx="3792600" cy="25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01400"/>
            <a:ext cx="3792600" cy="25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0" y="-3240"/>
            <a:ext cx="83804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31920"/>
            <a:ext cx="2502360" cy="25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31920"/>
            <a:ext cx="2502360" cy="25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31920"/>
            <a:ext cx="2502360" cy="25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01400"/>
            <a:ext cx="2502360" cy="25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01400"/>
            <a:ext cx="2502360" cy="25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01400"/>
            <a:ext cx="2502360" cy="25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0" y="-3240"/>
            <a:ext cx="83804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231920"/>
            <a:ext cx="7772400" cy="53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0" y="-3240"/>
            <a:ext cx="83804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31920"/>
            <a:ext cx="77724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3200" y="-3240"/>
            <a:ext cx="83804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31920"/>
            <a:ext cx="37926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231920"/>
            <a:ext cx="37926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0" y="-3240"/>
            <a:ext cx="83804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3200" y="-360"/>
            <a:ext cx="8380440" cy="35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3200" y="-3240"/>
            <a:ext cx="83804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31920"/>
            <a:ext cx="3792600" cy="25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231920"/>
            <a:ext cx="37926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01400"/>
            <a:ext cx="3792600" cy="25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0" y="-3240"/>
            <a:ext cx="83804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31920"/>
            <a:ext cx="7772400" cy="53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0" y="-3240"/>
            <a:ext cx="83804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31920"/>
            <a:ext cx="37926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31920"/>
            <a:ext cx="3792600" cy="25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01400"/>
            <a:ext cx="3792600" cy="25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3200" y="-3240"/>
            <a:ext cx="83804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31920"/>
            <a:ext cx="3792600" cy="25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31920"/>
            <a:ext cx="3792600" cy="25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01400"/>
            <a:ext cx="7772400" cy="25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3200" y="-3240"/>
            <a:ext cx="83804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31920"/>
            <a:ext cx="7772400" cy="25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01400"/>
            <a:ext cx="7772400" cy="25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3200" y="-3240"/>
            <a:ext cx="83804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31920"/>
            <a:ext cx="3792600" cy="25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231920"/>
            <a:ext cx="3792600" cy="25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01400"/>
            <a:ext cx="3792600" cy="25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01400"/>
            <a:ext cx="3792600" cy="25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3200" y="-3240"/>
            <a:ext cx="83804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31920"/>
            <a:ext cx="2502360" cy="25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231920"/>
            <a:ext cx="2502360" cy="25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231920"/>
            <a:ext cx="2502360" cy="25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01400"/>
            <a:ext cx="2502360" cy="25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01400"/>
            <a:ext cx="2502360" cy="25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01400"/>
            <a:ext cx="2502360" cy="25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0" y="-3240"/>
            <a:ext cx="83804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31920"/>
            <a:ext cx="77724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0" y="-3240"/>
            <a:ext cx="83804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31920"/>
            <a:ext cx="37926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31920"/>
            <a:ext cx="37926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0" y="-3240"/>
            <a:ext cx="83804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0" y="-360"/>
            <a:ext cx="8380440" cy="35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0" y="-3240"/>
            <a:ext cx="83804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31920"/>
            <a:ext cx="3792600" cy="25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31920"/>
            <a:ext cx="37926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01400"/>
            <a:ext cx="3792600" cy="25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0" y="-3240"/>
            <a:ext cx="83804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31920"/>
            <a:ext cx="37926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31920"/>
            <a:ext cx="3792600" cy="25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01400"/>
            <a:ext cx="3792600" cy="25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0" y="-3240"/>
            <a:ext cx="83804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31920"/>
            <a:ext cx="3792600" cy="25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31920"/>
            <a:ext cx="3792600" cy="25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01400"/>
            <a:ext cx="7772400" cy="25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98568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c1c1c1"/>
              </a:gs>
              <a:gs pos="50000">
                <a:srgbClr val="4d4d4d"/>
              </a:gs>
              <a:gs pos="100000">
                <a:srgbClr val="c1c1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560" y="-4680"/>
            <a:ext cx="8380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380440" cy="7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231920"/>
            <a:ext cx="77724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1447920"/>
            <a:ext cx="9142560" cy="175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380440" cy="7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231920"/>
            <a:ext cx="77724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Data_type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14080" y="1744200"/>
            <a:ext cx="6948360" cy="95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w Cen MT Condensed"/>
              </a:rPr>
              <a:t>Parameter Pass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iuseppe Attard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versità di Pis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380440" cy="7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all by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231920"/>
            <a:ext cx="77724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value of 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-valu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the actual parameter i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pi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to the formal parameter at invo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380440" cy="7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Java has </a:t>
            </a:r>
            <a:r>
              <a:rPr b="0" lang="en-US" sz="4400" spc="-1" strike="noStrike">
                <a:solidFill>
                  <a:srgbClr val="ff0000"/>
                </a:solidFill>
                <a:latin typeface="Tw Cen MT Condensed"/>
              </a:rPr>
              <a:t>only</a:t>
            </a: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 call by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231920"/>
            <a:ext cx="77724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Java is strictly pass-by-value.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e the Java Language Specification: http://java.sun.com/docs/books/jls/third_edition/html/classes.html#8.4.1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the method or constructor is invoked  (15.12), th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valu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f the actual argument expressions initialize newly created parameter variables, each of the declared Type, before execution of the body of the method or constructor. The 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Identifi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hat appears in th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DeclaratorI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may be used as a simple name in the body of the method or constructor to refer to the formal parameter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bject references are passed by value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380440" cy="7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all by 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231920"/>
            <a:ext cx="77724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value of the formal parameter is copied into the actual parameter (which must have an L-value) at procedure retur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380440" cy="7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all by value/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231920"/>
            <a:ext cx="77724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arameter is treated as in value mode during invocation and as in result mode during retur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380440" cy="7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No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231920"/>
            <a:ext cx="77724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o (inout x) { … x …}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o1 (ref x) { … x = x + 1; … }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o1(v[3]);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 = “asdasd”;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o1(s); // OK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o1(“asdasd”); // KO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o1(3); // KO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nt y = 7;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o1(y);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y?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380440" cy="7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No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231920"/>
            <a:ext cx="77724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o2 (Point ref q) { q.x = 7; q = null; 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int p = new Point(3,4)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int prev = p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o2(ref p)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 == prev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380440" cy="7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No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231920"/>
            <a:ext cx="77724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id foo (ref int x) {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= x + 3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= x/0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 z = 2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o(z)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380440" cy="7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all by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231920"/>
            <a:ext cx="77724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-valu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the formal parameter i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et to the L-valu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he actual paramet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ddress of the formal parameter is the same as the address of the actual paramet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y assignment to the formal parameter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mediatel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ffects the actual paramet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380440" cy="7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o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231920"/>
            <a:ext cx="77724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/ C#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oid foo(int ref x) { x += 1; }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/ C++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oid foo(int&amp; x) { x += 1; }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 a[3];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[0] = 0;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o(ref a[0]);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/ C#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o(a[0]);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/ C++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o(p);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380440" cy="7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++ Reference Data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440" y="1117440"/>
            <a:ext cx="8458200" cy="546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++ provides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ference data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built from other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 is a type T&amp; is a new type called “reference to T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should avoid the confusion between the general concept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fer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ference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 avoid the confusion with the notion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ference typ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Java and C#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 Types a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 point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ven though they are implemented through pointers and hence accessing a reference type may involve an implicit dereference op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Reference Types in parameters provides access to arguments even though they are still passed by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380440" cy="7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arameter Passing M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231920"/>
            <a:ext cx="77724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 by val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 by refere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 by result, value/resu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 referen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ures as parame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 by na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el parame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ble number of argu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ction retur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380440" cy="7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eference/Value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231920"/>
            <a:ext cx="77724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programming language theory,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ference typ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1" lang="en-US" sz="32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data typ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at can only be accessed by referenc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s of a reference type are always dynamically alloca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ue type objects instead can be manipulated directly and are copied when moved (assignment, parameter passing or function retur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380440" cy="7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++ Reference Typ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698480"/>
            <a:ext cx="816624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oid foo(int&amp; x) {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&amp; z = x;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x = x + 1;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 y = 7;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o(y);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y 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o(3);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/ only feasible if x wa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/ declared as const int&amp;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380440" cy="7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all by n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231920"/>
            <a:ext cx="77724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ry use of the formal parameter causes the actual parameter to be freshly evaluated in the referencing environment of the invocation poi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the formal parameter’s L-value is needed (for example, the parameter appears on the left-hand side of an assignment), the actual parameter’s L-value must be freshly evaluat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the formal parameter’s Rvalue is needed, the actual parameter’s R-value must be freshly evaluat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380440" cy="7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all by name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231920"/>
            <a:ext cx="77724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sum(name int expr, name int j, int siz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tot = 0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(j = 0; j &lt; size; j++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 += expr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 to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(A[i], i, n); /* sum of vector elements *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380440" cy="7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No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231920"/>
            <a:ext cx="77724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{ int i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[] A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amp;int thunk() { return &amp;A[i]; 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(thunk, i, n)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380440" cy="7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all by mac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1231920"/>
            <a:ext cx="77724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ry use of the formal parameter causes the text of the actual parameter to be freshly evaluated in the referencing environment of the use poi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380440" cy="7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Macro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231920"/>
            <a:ext cx="77724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#DEFINE foo(x) x + x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o(read()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ad() + read(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nline int foo(int x) { return x + x; }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nt foo(int&amp; x, int &amp;y) { x++; y++; return x + y;}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o(a, a);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arameter passing m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84360" y="1773360"/>
          <a:ext cx="7772400" cy="4811760"/>
        </p:xfrm>
        <a:graphic>
          <a:graphicData uri="http://schemas.openxmlformats.org/drawingml/2006/table">
            <a:tbl>
              <a:tblPr/>
              <a:tblGrid>
                <a:gridCol w="1554120"/>
                <a:gridCol w="1684080"/>
                <a:gridCol w="1425600"/>
                <a:gridCol w="1554120"/>
                <a:gridCol w="1554480"/>
              </a:tblGrid>
              <a:tr h="585720">
                <a:tc>
                  <a:txBody>
                    <a:bodyPr lIns="81000" rIns="810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to actual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a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11120">
                <a:tc>
                  <a:txBody>
                    <a:bodyPr lIns="81000" rIns="81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81000" rIns="81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, con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, re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81000" rIns="81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 (C#, Ad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, re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81000" rIns="81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/resu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81000" rIns="81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, re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81000" rIns="81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, re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81000" rIns="81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o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, re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81000" rIns="81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000" rIns="81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380440" cy="7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231920"/>
            <a:ext cx="77724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ap(x, y) using just call-by-val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id swap(int x, int y) 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temp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mp = x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= y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= temp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es not work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380440" cy="7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Swap by call by n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231920"/>
            <a:ext cx="77724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ap(x, y) using just call-by-na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 b[10]; swap(i, b[i])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id swap(name int x, name int y) {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 temp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mp = x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= y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= temp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380440" cy="7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 Condensed"/>
              </a:rPr>
              <a:t>Terminolog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231920"/>
            <a:ext cx="77724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ressions evaluate to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-valu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bles and components of variables of structured types also have a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-valu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at is, an address where their R-value is stor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ssignment statement requires an L-value on the left-hand side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nds for “left”) and an R-value on the right-hand side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nds for “right”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380440" cy="7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Swap with C# re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231920"/>
            <a:ext cx="77724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id swap(int ref x, int ref y) {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tmp = y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= x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= tmp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a = 3, b =5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ap(a, b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380440" cy="7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ote 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231920"/>
            <a:ext cx="77724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st l = new List()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 s = new Student()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.add(s)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at pi = 3.14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.add(pi)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ew Integer(314)).toString()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.toString()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380440" cy="7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o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231920"/>
            <a:ext cx="77724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 a[] = new int[3]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 b[] = new int[5]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wap(a, b)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wap(i, a[i])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 temp; temp = x; x = y; y = temp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=3, b=5; a=5, b=5; a=5, b=3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oid swap(inout int x, inout int y) {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 temp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mp = x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 = y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y = temp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380440" cy="7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231920"/>
            <a:ext cx="77724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ap(x, y) using just call-by-na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ap(name x, name y) =&gt; {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es it work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380440" cy="7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all by n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231920"/>
            <a:ext cx="77724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nter exampl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ap(i, A[i]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i=3, A[3] = 4) =&gt; (i=4, A[4] = 4, A[3] unchange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380440" cy="7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all by value/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231920"/>
            <a:ext cx="77724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ap(i, A[i]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s even in case (i=2, A[2]= 99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380440" cy="7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all by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1231920"/>
            <a:ext cx="77724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ies argu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al cas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def struct { int x, y} Pair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ir q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d(q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ir foo() { Pair p; return p;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ir p = foo(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.push_back(Pair(2,3)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 [200000] v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(v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d::string s; bad(s);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3200" y="-3240"/>
            <a:ext cx="83804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1231920"/>
            <a:ext cx="77724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* foo() {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 v[100]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urn v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380440" cy="7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amples of L-value, R-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231920"/>
            <a:ext cx="77724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x = 3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= x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v[40]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[3] = v[3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x == 3) 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foo(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 = …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int.x = 12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380440" cy="7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Value Model, Reference Mod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231920"/>
            <a:ext cx="77724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= 2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= b; b = b +1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= b + c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843280" y="4292640"/>
            <a:ext cx="431640" cy="3574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843280" y="4869000"/>
            <a:ext cx="431640" cy="3574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843280" y="5516640"/>
            <a:ext cx="431640" cy="3574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11280" y="4292640"/>
            <a:ext cx="3603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3000"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411280" y="4925880"/>
            <a:ext cx="36036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3000"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411280" y="5502240"/>
            <a:ext cx="3603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3000"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5653080" y="4292640"/>
            <a:ext cx="431640" cy="36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5653080" y="4869000"/>
            <a:ext cx="431640" cy="36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5653080" y="5516640"/>
            <a:ext cx="431640" cy="36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5219640" y="4292640"/>
            <a:ext cx="3603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3000"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5219640" y="4925880"/>
            <a:ext cx="36036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3000"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5219640" y="5502240"/>
            <a:ext cx="3603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3000"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9"/>
          <p:cNvSpPr/>
          <p:nvPr/>
        </p:nvSpPr>
        <p:spPr>
          <a:xfrm>
            <a:off x="5867280" y="4508640"/>
            <a:ext cx="172908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0640" rIns="8064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20"/>
          <p:cNvSpPr/>
          <p:nvPr/>
        </p:nvSpPr>
        <p:spPr>
          <a:xfrm>
            <a:off x="5940360" y="5084640"/>
            <a:ext cx="165600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0640" rIns="8064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21"/>
          <p:cNvSpPr/>
          <p:nvPr/>
        </p:nvSpPr>
        <p:spPr>
          <a:xfrm flipV="1">
            <a:off x="5940360" y="5157360"/>
            <a:ext cx="1584360" cy="57636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0640" rIns="8064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1979640" y="3716280"/>
            <a:ext cx="223200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5651640" y="3716280"/>
            <a:ext cx="223200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7596360" y="4282920"/>
            <a:ext cx="431640" cy="3574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5"/>
          <p:cNvSpPr/>
          <p:nvPr/>
        </p:nvSpPr>
        <p:spPr>
          <a:xfrm>
            <a:off x="2840040" y="4869000"/>
            <a:ext cx="431640" cy="3574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6"/>
          <p:cNvSpPr/>
          <p:nvPr/>
        </p:nvSpPr>
        <p:spPr>
          <a:xfrm>
            <a:off x="7564320" y="4932360"/>
            <a:ext cx="432000" cy="3574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7"/>
          <p:cNvSpPr/>
          <p:nvPr/>
        </p:nvSpPr>
        <p:spPr>
          <a:xfrm>
            <a:off x="7559640" y="4940280"/>
            <a:ext cx="432000" cy="3574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380440" cy="7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231920"/>
            <a:ext cx="77724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 Point { int x, y; 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int p = Point(3, 4)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int p2 = p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.x = 5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2.x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o(p)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 i = 3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er i = new Integer(3)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380440" cy="7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231920"/>
            <a:ext cx="77724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id foo (int* x) 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x = 3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 Point { int x, y}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int p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r(&amp;p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id bar(Point* p) { p-&gt;x = 3; 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int* p = new Point(); p-&gt;x = 5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int* p2 = p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r(p2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4640" y="24912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231920"/>
            <a:ext cx="77724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id bar(Point p1) { p1.x = 3; 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int p = new Point(); p.x = 5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r(p)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.x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380440" cy="7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eferenc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1231920"/>
            <a:ext cx="7772400" cy="53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language using the Reference Model, every variable is an L-val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it appears in a R-value context, it must b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ereferenc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ually dereference is implic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gol68, Lisp, ML, Haskell, SmallTal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: mixed (value for built-in type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7T21:50:24Z</dcterms:created>
  <dc:creator>Giuseppe Attardi</dc:creator>
  <dc:description/>
  <cp:keywords/>
  <dc:language>en-US</dc:language>
  <cp:lastModifiedBy>Giuseppe Attardi</cp:lastModifiedBy>
  <cp:lastPrinted>2000-10-06T17:06:07Z</cp:lastPrinted>
  <dcterms:modified xsi:type="dcterms:W3CDTF">2017-03-07T08:31:15Z</dcterms:modified>
  <cp:revision>359</cp:revision>
  <dc:subject/>
  <dc:title>Name, Scope, Binding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mickunas@cs.uiuc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cs321\lecture\Spring2000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